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13275"/>
        <c:axId val="24637759"/>
      </c:barChart>
      <c:catAx>
        <c:axId val="16313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37759"/>
        <c:crosses val="autoZero"/>
        <c:auto val="1"/>
        <c:lblAlgn val="ctr"/>
        <c:lblOffset val="100"/>
        <c:noMultiLvlLbl val="0"/>
      </c:catAx>
      <c:valAx>
        <c:axId val="24637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13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585-D245-457D-9B0F-AADB8136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992-F16A-436B-856A-59EEA414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6B2-BC43-4579-A209-E3344B6D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0E4-740E-4915-B46E-224543B0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A20-070E-442D-9A89-C146A0C9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AC9-7C72-414C-AB8F-89AB3DA8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129-D711-487F-B118-467A6A6A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185-772D-4605-BF88-ADCA1C1F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0DC-2223-4DBD-AA6E-6E7195D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C3A-63A1-4DA9-91D0-EB0E84DF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6E8-9F47-40FC-9A80-8883E49E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CB8-8927-4EC5-8F9B-3376F744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0C716-B240-4E71-B1AA-9CA2421F10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