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436654"/>
        <c:axId val="30008054"/>
      </c:barChart>
      <c:catAx>
        <c:axId val="144366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08054"/>
        <c:crosses val="autoZero"/>
        <c:auto val="1"/>
        <c:lblAlgn val="ctr"/>
        <c:lblOffset val="100"/>
        <c:noMultiLvlLbl val="0"/>
      </c:catAx>
      <c:valAx>
        <c:axId val="300080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366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D937-7135-4134-A262-59D1F267D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F1C3-3347-424A-AD91-48C3BD44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1A7A-7FCA-483A-86F9-F175332CF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7587-18A1-4A74-9DD7-68F80783C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47C2-2A61-4C1C-8637-004E5008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4CB1-ACE3-4C77-9664-D1E3E327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D06B-E782-4969-8CA3-7E6FF891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BA61-EF92-459A-A2CA-7DFE0ABD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BD9D-829F-4F8D-90EE-4D256C08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646B-A6E4-44EC-AE0A-9A86B770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B219-C107-4C21-81D4-727F552A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DD3F-E059-4A98-97E4-962AEECD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E2A6D-FFC7-49E3-B2F2-95D8C3C748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