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18799"/>
        <c:axId val="76324923"/>
      </c:barChart>
      <c:catAx>
        <c:axId val="28018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24923"/>
        <c:crosses val="autoZero"/>
        <c:auto val="1"/>
        <c:lblAlgn val="ctr"/>
        <c:lblOffset val="100"/>
        <c:noMultiLvlLbl val="0"/>
      </c:catAx>
      <c:valAx>
        <c:axId val="76324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18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01C-CE92-431E-B203-7D21AEBE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C81-B128-44A1-B7EE-0CEA42C7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69E-04DF-412C-B8DF-E5D70F0E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A09-BDBB-4F2A-AF95-24C615DB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4AC-343E-4A10-B27B-45D44291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955-5A3C-442E-9C35-16DC797F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8AD-FFCA-4F6D-B8D2-EF293CC7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401-BF87-43E3-A4F3-25B64DF4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5FE-25FF-4F7C-B0D2-79CE6619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455-B70F-46F6-AF60-3B85FAFD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01D-9C77-4130-9134-95CE52CC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0C00-E243-45F8-BAB0-461847E5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FF68E-F2C0-4AA0-AA5B-DD784AC7B1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