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412312"/>
        <c:axId val="85060445"/>
      </c:barChart>
      <c:catAx>
        <c:axId val="284123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60445"/>
        <c:crosses val="autoZero"/>
        <c:auto val="1"/>
        <c:lblAlgn val="ctr"/>
        <c:lblOffset val="100"/>
        <c:noMultiLvlLbl val="0"/>
      </c:catAx>
      <c:valAx>
        <c:axId val="85060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123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2F2-CCF4-45F2-A277-54C0B972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E84C-4431-4B2D-8A10-9749EDA8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54A-86BF-49D7-B0A1-4E3D9A85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9975-891D-439B-87B7-11CA0E11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49B2-4467-4160-8FDE-BDFCC5D0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864-7901-46AA-8D9B-807FA5ED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B771-105A-489E-B2A9-9035EB75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18AB-3CAD-4655-AAC3-B47938D0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88D-ABEC-4768-8742-E7D174F5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627-566C-40D0-B075-5EF82C8B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545D-02B9-4632-8053-B15646D8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84D2-5699-4105-B705-F7B69A0B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ECE5F-D06B-4CB9-B54A-B920426DB4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