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44530"/>
        <c:axId val="76474591"/>
      </c:barChart>
      <c:catAx>
        <c:axId val="87844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74591"/>
        <c:crosses val="autoZero"/>
        <c:auto val="1"/>
        <c:lblAlgn val="ctr"/>
        <c:lblOffset val="100"/>
        <c:noMultiLvlLbl val="0"/>
      </c:catAx>
      <c:valAx>
        <c:axId val="76474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44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9AC-E915-45AD-9FBB-B6BD1351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C23-9947-49D4-820B-EAD0E7E8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A53-DCC7-4BE9-8405-402785C9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EA2-141B-4136-BF0C-722EE737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844-5369-4EC5-A832-D537D802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997-939F-4CAD-BDC0-CE5FF8FC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5D3-1321-4A8F-9832-37A74437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9E95-84C1-4F79-B4BF-72ADA06A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011-0B2A-486D-869F-02F74C83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084-3E80-4132-B0E5-94905587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C5C-7DD9-4C87-B8AE-4F824054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B56-698D-452E-BC55-9D01CBF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94C04-8990-4697-B631-9F92B7465E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