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408763"/>
        <c:axId val="93842805"/>
      </c:barChart>
      <c:catAx>
        <c:axId val="134087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842805"/>
        <c:crosses val="autoZero"/>
        <c:auto val="1"/>
        <c:lblAlgn val="ctr"/>
        <c:lblOffset val="100"/>
        <c:noMultiLvlLbl val="0"/>
      </c:catAx>
      <c:valAx>
        <c:axId val="938428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087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8052-4BE8-4089-BDE5-E395759DE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7A9F-437B-4FF4-BA93-B057AB62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20F9-8AD9-432B-BB0E-9ED493144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AEE2-F31F-40DD-A0A8-7C7E53107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A20A-ABF1-487B-AD32-3725954F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17E9-3FDB-43CE-A89C-412BF3B1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30C4-8601-4AC6-B966-90A3C0F0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B55F-050D-48EC-B495-D40F727B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406B-02C9-42A4-BD4E-092BA30E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9C91-7E1A-4BE7-A6A8-7D72266E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A3A0-BB27-4B59-8BB7-34B3E9FF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32D5-327A-49CF-A2E0-FDF405D8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FD57C1-B996-4263-8648-EE262E32E3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