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270689"/>
        <c:axId val="29317742"/>
      </c:barChart>
      <c:catAx>
        <c:axId val="802706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317742"/>
        <c:crosses val="autoZero"/>
        <c:auto val="1"/>
        <c:lblAlgn val="ctr"/>
        <c:lblOffset val="100"/>
        <c:noMultiLvlLbl val="0"/>
      </c:catAx>
      <c:valAx>
        <c:axId val="293177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2706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15CA-0B07-4E78-9E19-F378B5EF1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45EE-326D-4C31-A80B-B0D411E39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F4DE-428D-4F0F-9865-C82D23A75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4D2E-DADC-4734-8644-7558FBC38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DECE-203B-404E-994E-AE1AA4B4A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8D21-4606-4D51-A003-32142EE27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A366-33F1-47DF-8721-3171732CB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F582-AE8C-4025-8878-A3967E408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6B0C-F9D5-4641-9654-381EBB228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F52C-6684-44C7-991D-5BDEB8DA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C78E-7946-4D91-B17A-80BD392A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5F78-CDE3-4D18-91D4-99F0CFB2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C5CE09-245C-456E-B732-CA467F0D564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