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780191"/>
        <c:axId val="60697860"/>
      </c:barChart>
      <c:catAx>
        <c:axId val="437801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697860"/>
        <c:crosses val="autoZero"/>
        <c:auto val="1"/>
        <c:lblAlgn val="ctr"/>
        <c:lblOffset val="100"/>
        <c:noMultiLvlLbl val="0"/>
      </c:catAx>
      <c:valAx>
        <c:axId val="606978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7801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0685-9EAE-43BD-8339-45A0D30B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AC05-DACD-4C15-8333-CE2EC6B1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A8FC-52CE-4B89-9387-06C32BD2B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60C3-7B76-456C-BAF9-EA4EAE414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6FB4-837C-4A17-9AD3-E200DEB3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92E5-3ADC-4CC6-9931-759497B3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0F6A-F63B-497B-9787-EEEF345C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E6E5-6EBE-4250-9E3E-1C45707C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B4F3-2551-4925-8B50-CC63DFB2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BC31-C9FC-4BE9-A9F6-F32186DA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1B80-776E-4711-A958-01530421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D6FA-7F0C-45C9-9838-453CB2AC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B218B6-BA61-417E-A966-83F6DA2FBE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