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809665"/>
        <c:axId val="14455912"/>
      </c:barChart>
      <c:catAx>
        <c:axId val="188096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55912"/>
        <c:crosses val="autoZero"/>
        <c:auto val="1"/>
        <c:lblAlgn val="ctr"/>
        <c:lblOffset val="100"/>
        <c:noMultiLvlLbl val="0"/>
      </c:catAx>
      <c:valAx>
        <c:axId val="144559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096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8711-B827-41D7-941D-6CC901D7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5C52-64D7-4280-8B93-90588D82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D908-508C-46A3-AAD8-5DF574D7B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B3FA-0FA1-4ACF-AFEC-1EEBE958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B9C9-2D3C-4BA8-A9E5-26CA3377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1C9C-1815-4904-98D1-DB33856B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4FAB-1E27-47A5-BF69-B621D2EA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E589-2D8A-46D1-8AD8-99262BD2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BDD3-E7C6-4AD6-A953-5A950A87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E8E7-447F-492E-BAA7-0AC0B308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5ECA-712B-4B91-993B-90681E18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9985-E068-467A-B0DC-D14CBE97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F5CFC-EA1D-405A-AB76-995612A00E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