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93497"/>
        <c:axId val="92224873"/>
      </c:barChart>
      <c:catAx>
        <c:axId val="36993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24873"/>
        <c:crosses val="autoZero"/>
        <c:auto val="1"/>
        <c:lblAlgn val="ctr"/>
        <c:lblOffset val="100"/>
        <c:noMultiLvlLbl val="0"/>
      </c:catAx>
      <c:valAx>
        <c:axId val="92224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93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5F1-FFEC-40D4-B218-D5F59D33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ED5-C5DA-453F-9D45-579D9C51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250-DAE5-4076-BE3B-03523465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C2D-116F-4E58-914A-E8199217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4F3-EC85-4534-802D-0D7A7F9B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B9C-31FF-488B-8280-5590F38C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7F2-6655-4D33-8260-872BA530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716-35B5-40E8-A7BE-608CD315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12C-759F-4A77-A811-22B422B8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477-6C5F-491F-8FF0-AD7DAAF4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5E3-E7FD-43BF-9092-FB507037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71D-F742-41CC-B694-48CED13D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D6A5A-E1D5-4E40-B599-1AB13CF969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