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14122"/>
        <c:axId val="61370871"/>
      </c:barChart>
      <c:catAx>
        <c:axId val="86714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70871"/>
        <c:crosses val="autoZero"/>
        <c:auto val="1"/>
        <c:lblAlgn val="ctr"/>
        <c:lblOffset val="100"/>
        <c:noMultiLvlLbl val="0"/>
      </c:catAx>
      <c:valAx>
        <c:axId val="61370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14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17A-872F-4D59-96CC-ED919E3E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BF4-5747-42F0-9400-D3032865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1BF-75EA-4EEB-9392-5A3CAF80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CBD-EDC6-41B5-BFE2-E03006AE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0FC-9F62-4839-95F9-8AF35C84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6A4-9F62-4FB0-B13E-1CC5907A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EA6C-AFB3-4DA7-8428-10C94ADA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5D5-327C-424A-9C73-67848EF0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74F-23EE-4418-AB1D-609B7E49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F57-390F-4635-A398-B1724EF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4DB-C956-4524-B7D8-E67080FB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799-4782-4C5A-80F9-18BFC3D5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42E69-E758-4849-847A-C630FA639F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