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25469"/>
        <c:axId val="43616837"/>
      </c:barChart>
      <c:catAx>
        <c:axId val="71225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16837"/>
        <c:crosses val="autoZero"/>
        <c:auto val="1"/>
        <c:lblAlgn val="ctr"/>
        <c:lblOffset val="100"/>
        <c:noMultiLvlLbl val="0"/>
      </c:catAx>
      <c:valAx>
        <c:axId val="43616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25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CAE-63C5-4B85-96D1-8DC61FAE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D7F-2584-40AA-BB99-8EA01101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3E1-FFE0-42F5-AFE1-985F0339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090-40D4-4978-9051-6D720529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BB5-A1DA-4C28-9F96-6F40934B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2A5-FEB9-4FCA-9B3C-2CEBF908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937-711A-4D2D-BE85-D7C6C5D7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1F2-89B0-488C-A8E4-1B7C4626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0B4-A386-4AB9-B57F-1DFAF5D0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447-BB63-470E-A910-0D69F69F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A15-87E4-4714-82A8-3D4CFE8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84A-06F5-4DFD-AC7E-DA8FECD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6304F-2392-4780-9CF2-E3A6299E52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