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8880"/>
        <c:axId val="38109473"/>
      </c:barChart>
      <c:catAx>
        <c:axId val="6878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09473"/>
        <c:crosses val="autoZero"/>
        <c:auto val="1"/>
        <c:lblAlgn val="ctr"/>
        <c:lblOffset val="100"/>
        <c:noMultiLvlLbl val="0"/>
      </c:catAx>
      <c:valAx>
        <c:axId val="38109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8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AAE-DA51-45D3-98F7-782CC170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F7C-77A5-444A-ACB3-66EB9BB6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E78-4169-45F7-B815-06D10AB1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0C2-7101-4FF1-9DF9-1E2902BD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FBC-9EA1-4403-B0BB-DD023849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F7B-651E-4000-8E18-6F8F66D7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C09-58A2-4CD9-8118-92DE52BC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82C-5BFC-4A4F-833E-1E514DFF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4C0-BC17-4840-9FA7-6440EB5A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417-5C38-446A-A41C-B695F91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CF1-F866-4F50-A888-CE08E90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069-8525-4EA0-89A3-10343C88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55518-FA01-45A9-99A8-F208C7779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