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7986240"/>
        <c:axId val="94974050"/>
      </c:barChart>
      <c:catAx>
        <c:axId val="5798624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4974050"/>
        <c:crosses val="autoZero"/>
        <c:auto val="1"/>
        <c:lblAlgn val="ctr"/>
        <c:lblOffset val="100"/>
        <c:noMultiLvlLbl val="0"/>
      </c:catAx>
      <c:valAx>
        <c:axId val="9497405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798624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25A2F-9B13-4B1D-86BC-08BD6DCB5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C5AE1-1544-4AD1-90EA-A3F0B4C5E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BE7A6-1B4B-42CA-A1A8-FDB802418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E53A7-4B19-40EA-9BAB-98D2F57BB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4CA9D-9791-47AD-8806-029E6ED4A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BA797-B311-4953-9163-FCC636C9B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3048B-1FD0-48DF-9396-2602255B6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E1668-CA5F-4236-8D98-254C85EC9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73FAC-4B50-48F8-B25C-B7A2C1D4F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943DE-29B8-4724-BF98-675EE8399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2CED8-F4A6-4BAA-98CD-F9B171E00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10C92-2BC3-49F1-A8BD-FBBDBE1CE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EC504E-426B-4E6F-8EC6-D8AA0393A9F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