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6684"/>
        <c:axId val="45461744"/>
      </c:barChart>
      <c:catAx>
        <c:axId val="83536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1744"/>
        <c:crosses val="autoZero"/>
        <c:auto val="1"/>
        <c:lblAlgn val="ctr"/>
        <c:lblOffset val="100"/>
        <c:noMultiLvlLbl val="0"/>
      </c:catAx>
      <c:valAx>
        <c:axId val="45461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6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19C-DD5B-445D-ACCB-01F6226C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F21-C4AE-4CDF-99B9-4B28268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4E6-3048-407C-9FCA-0A1D1144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657-D8B7-4DC3-9123-63D64260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57E-F8F7-4182-A48F-72F1C31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992-6DA9-48BB-B532-C4DE247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093-28EE-497A-9A5D-B0B7EAD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9B4-C8E1-49A4-BC81-9230225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68D-1434-4294-9650-B8B8546F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361-C2FD-4A7C-A6F9-AF79D641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9DE-75EB-4788-9F97-CA93A8F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1C2-4631-4AF2-B5FF-6049FC6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54E21-1AA7-495A-80AB-C35FDFF690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