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43352"/>
        <c:axId val="256080"/>
      </c:barChart>
      <c:catAx>
        <c:axId val="80643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080"/>
        <c:crosses val="autoZero"/>
        <c:auto val="1"/>
        <c:lblAlgn val="ctr"/>
        <c:lblOffset val="100"/>
        <c:noMultiLvlLbl val="0"/>
      </c:catAx>
      <c:valAx>
        <c:axId val="256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3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483-9CEC-4DC5-8229-B79B21B5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AC5-D7F5-4A65-859A-2D803EAC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36B-FE7E-49C3-A3B0-885867AF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297-220B-44DF-9591-4D22452C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5DF-8583-4E89-8A6C-FCD52A42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209-9946-4C96-8305-5716D19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4CF-10DF-48A0-AEB4-4CE7C918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34A-2872-4C66-91DC-7B10C73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36D-AC5A-46BC-AED8-B5FFAF9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FD4-E8FE-4556-BC8E-2C120B3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C50-17AA-43E9-9EB4-3F2E33E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02C-DCF1-4DEF-975E-E8A2616A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C991A-6CC6-423E-929D-E51E173BDF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