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3670"/>
        <c:axId val="25189271"/>
      </c:barChart>
      <c:catAx>
        <c:axId val="65563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9271"/>
        <c:crosses val="autoZero"/>
        <c:auto val="1"/>
        <c:lblAlgn val="ctr"/>
        <c:lblOffset val="100"/>
        <c:noMultiLvlLbl val="0"/>
      </c:catAx>
      <c:valAx>
        <c:axId val="25189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3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D51-B923-4E60-BEA7-6985E975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2B5-B3E9-4A15-BDDA-96715E5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E5C-2946-487E-B991-C910243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8BD-C5D1-4172-A8D7-B5F27EC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16F-BC90-4D27-A6A2-182462CD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7E5-169B-463D-A4C3-751B18A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027-5557-47A9-8912-91639D36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04C-76CB-41DE-B191-FA2C4167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364-79A7-47AE-8F68-6479EC34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B09-D63B-43F0-8F22-D5D024A8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1E7-A507-4067-A56A-9E6E3BA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852-E40C-4E98-B6BA-95FE3E7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B49B-B84A-4950-98DC-1863F7C76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