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79ABC0-D499-4A9A-BB32-BAB83620CA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64587C-5AA6-4FBA-93AC-5158171CFA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6D8BE7-B446-421B-83F8-A4CDA292F5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90B81D-D93B-48AA-8A81-00773BC81F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BBF1B9-8D61-4F88-A275-2470F90127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F17336-2FDB-420D-AC7E-274C983FD9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84F40E-8F2B-4545-B42E-DC9D5E3D4F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A8042E-7D4A-4CCC-A3A1-1261E50886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241274-5B39-43AC-99E3-5870238806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BFD5EE-0909-4B3B-9BD2-EEE7974C5C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400F37-7345-40B3-B781-6350B3257A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5DE816-5624-4BF8-9728-12D4331C5C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66ABA9-B4DF-4E0A-B40F-6DB7EFD1F0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7CC2C9-2296-46D4-BD78-D487FA21B3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B833A6-63BF-4636-8F68-C230D21C3D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2CD5A0-3848-431D-9DED-3F0486B14B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AB9EA1-EE68-46C2-B9AE-EC77FC0FDB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9B6664-DC95-4FC3-9A3D-9B5EA2407B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C2D1BC-D49D-4680-9FE0-EE18B0A5FB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34B715-2249-41DE-8532-891A230460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9277A7-5B56-41CE-94DD-E38B47DFC7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7DA120-F8B7-45E2-82F3-CB018F72EC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0EA1EC-3E9D-487F-8D59-41E1E89A49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6500F6-9325-4A1D-B944-4CBDAB813F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FDFBF-632A-42D4-A502-679D02A5995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F0183-A5C3-4EC7-8963-5B17D89FA97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39A2A08-E941-4A3B-A1F8-AEEEBB40A77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9D7AB38-84F0-41A6-9411-8A6EC7A0D9B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2C2579-1DC8-42C0-8EE9-1BE8962795D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45031C-B47A-495E-B9E3-503F4F22116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3238C8-0997-4FC0-AC79-4263224B83D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396230-A795-4F62-AF5A-CB118A7956F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169282-9794-4365-953B-2575FAC0308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DA2566-A158-471C-AB22-946F5D21B3AE}"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856EF6-493D-4FD5-A16C-CF033F06A11F}"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7D887D-AE2F-427C-8EDB-BD3D5FF447A5}"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449045-89E8-4BA0-A336-6A12BF09085E}"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761122-A5A8-46A3-BE17-AA047A73C197}"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5E843B-52DD-4241-B147-03B6A81F9D27}"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55EDA3-3F35-4B1B-9FFB-B7267FD19DD5}"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98E967-B951-4295-959E-4F662150F67A}"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80E355-F95A-440F-B149-991CCDDC20CE}"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FE7505-859F-4A8A-8CD6-23B8D2CBC9BC}"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B7B7F6-8F4F-4AC4-8FDF-105E427F359D}"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FE9BCD-B7B3-4944-B83F-7F5FB8F2F1F9}"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ADF7C6-B857-478C-BFB3-BAD7031577B8}"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04DF4D-E562-47B8-8BF3-BD92BBDBAC34}"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FAC12E-FD7A-4671-9E34-920AE7F8B9C1}"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12F7B6-2554-421F-B351-EB9EFA36195C}"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3F0524-1579-4ACA-800D-5AC4243AE1C9}"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556C40-2E95-4B80-9B68-AD465D1B4844}"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64E30C-A722-4370-BA0D-F94A3B0AEA9E}"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FEF7D7-CBD3-49EB-B5B4-FA9702C1262B}"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D372D03-9D00-41F4-B8C7-E4B46976B1CF}"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65A1D9-9C4F-4346-AEC4-83511A8BFE19}"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8AC210-B995-40D4-AB65-FC37A62142DE}"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461DC7-C563-4A11-84BA-1370044B1445}"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FE14F5-99D0-4738-96A0-866E27E2B4A3}"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C459F6-27F9-4F6C-9A0B-EAF24145766A}"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204FC5-8516-4080-BC92-70612BF2AC85}"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C8902C-C296-4B57-BCF7-E6FCF702A883}"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22CDE4-06E2-4988-954F-17A793E6A96E}"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276161-6C9E-492B-BA54-846C3EE6E745}"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8AE27C-D25C-4910-A64A-457FB3A42403}"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93369F-CDDA-4F60-A67F-91529510ACAA}"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D967A6-FFF6-4505-82D7-0860DE3D4913}"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D6A96C-7365-4C37-B066-CB25E678A49B}"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5D9715-081E-4622-A502-8577460E350A}"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125E3F-2C42-462C-9422-5DDAB4CCE49A}"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55C776-250B-4B8D-B428-3201592182E8}"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4B3331-2C94-4E1E-BE9A-B8CDDC2132BF}"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2E59C5-C6A3-4564-A0AC-A100D0825173}"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88F9BA-79BE-4609-9FC1-7E41F0BAE936}"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6A300C-BDBE-48C3-B86F-291E9FE613EE}"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0057DD7-7D67-4DF8-9BCC-D08F1E59F21F}"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791A9F-53A5-4050-8F8F-F8C722A3D777}"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CE1CF1-6509-4939-AE5F-6C09280E624A}"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CA40E9A-2213-4D11-A0ED-8174C0B5C4D8}"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68AFC3-C17E-49B7-AA81-117AF00F1908}"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1FDD38-7B70-4212-8D88-9A8909912B15}"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B3E18A-9C59-47BF-80DE-84EF8A3F0111}"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0C8BD7-CE88-47F7-9D2B-50F1EBDB90D8}"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117339-D3DC-4E99-BE1A-DEBD0A0C5659}"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603A46-9244-42C0-B8A6-D477FCF3C109}"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21C890-4822-453A-AA57-8C2630D0F334}"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B26CB88-3015-4DDB-914B-E7E96E72877D}"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B65863-CE6E-4634-A7F9-1E39B88F90A7}"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7F3E03-F07C-4577-B9E8-A85525AB4F42}"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3B7BF1-F6AC-4FAB-AB1D-59AB6C54BF75}"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AD5175-9012-4EAE-9195-95F7AD57618A}"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783C80-602E-48EF-8C36-1249DB6B9A1F}"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E4C0DB2-196B-430F-AC1C-1D4506319399}"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DAB10D-06F3-4866-B0CD-1D7FD08B21B9}"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6E68C0-0774-465E-863B-078A623175CF}"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A5199C-D5EC-4E64-BA33-B2B9D17DC5CE}"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D78757-2F70-4828-8FBF-58756D8F0A7C}"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13259FE-0AB6-47AC-A751-D4968AC10B0C}"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0EEB9E-9748-42B1-8550-0B568332AE25}"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2E7661-0E02-4CBD-8833-8C208B4C34A5}"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501B95-D689-423F-B9A4-255DA1320668}"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D7D919-4749-4E9E-8B93-FAED9DF0B739}"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4EBE68-138E-4AFC-ADD1-797F3750861A}"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4E4371-56E4-423C-A45E-4027675C2EAD}"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6C7B82B-7717-4EEB-80AF-758E8F39A1DD}"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11DE21-0AFA-49D7-99D1-8D72E6D62ECB}"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2916B7-1B0A-4070-B6A5-3EAA7BDE936B}"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D317AD-4677-415B-B07B-896DF7C67A0E}"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6EBD94F-B801-4E43-AC50-62515A09A2BF}"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FCB6E0-BFBE-44B9-AACD-F24B3CC1CBCB}"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BACBC97-EA5B-467C-AF86-B7A717464B8C}"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7AB542-7676-4F3C-8036-930330386BFE}"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B6159E-9724-45E5-83D9-0BC460BF65B8}"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54E784-F85F-40D6-BACD-6E0ED595186B}"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5C29E6-2132-4FA9-8558-C9DF7741D06B}"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64C11A-8D72-4D05-B3F4-16A561DC053A}"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4054D0-AE96-4F6E-AD1A-7204F68D68FA}"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6D70AA-7A54-423C-9559-C64540549F8A}"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65F359-6867-469A-A4EF-11F09661BAFD}"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65751C-4F93-4C22-A92A-68598A60BE84}"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5EF5B5-6DA0-4EEF-9F27-24CA2B8DF175}"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841926-D553-4007-9A2F-42612904CD9E}"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037545-2B6E-4695-A86C-414B32F1B954}"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984938-6540-489A-AC4A-DA72A3ED37C4}"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465DC7-C38D-422F-AC29-06BE0312A0B4}"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0A07CC-6E05-4F9F-A188-1EFF3BCD9010}"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BE7807F-AF9C-458C-93E7-16D1FAF5A5F2}"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C89CF4-7FAD-486E-ABBF-266883750361}"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354708-49AD-455B-9D0A-2131332C6D83}"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146B1A-27E0-4085-B1A8-126707DDE00B}"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AE7492-4F08-413B-BA01-D25CA8D9F37B}"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C8198E-B3EC-4CA1-A8EF-33C8BA777078}"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0EEA48-9657-45DC-8A0D-47D7300466D0}"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9660FD-085A-464E-9DF2-E41C9258C791}"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B09CD3-D808-4F2E-AE61-ADC49C876D60}"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680E09-9AED-499B-AA1B-1B9A1C950AFB}"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37B930-9D9E-4CCD-B1F1-E9FC5F64742B}"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5FB066-5737-46F7-BFC1-699A2CB2A32F}"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4C5809-D903-4323-94C2-BB580EBB297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D56D19-AB32-492D-90EC-DA2E2F561D7F}"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8C2183-135F-45F4-A0A2-295FC67EC2C1}"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E7A908-D7B8-466F-86A2-802AB67319C6}"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3B73E3-0F3F-4A8E-ACC5-CE4285ECC70C}"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70CE44-BE5F-48DE-94E0-B06FEA5054DE}"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A6F933-7029-4A32-BA9D-40662E91F538}"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9A59F8-5E6E-44DC-8709-D556D1A20B9D}"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1E9FB5-AE59-48A2-9908-96A45FB10159}"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20C351-47CD-442B-A350-2C6154D8A0FA}"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83C48B-C808-4DFB-9E4E-6D88E9DAFC59}"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7C16F9-C87E-48DD-A183-48B3F33E4805}"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EE0BC5-2BAA-4A43-ABC8-B473B557A218}"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BC470D-0873-4DE3-BD5C-17BA79BB8435}"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14B27F-A028-4F2F-8FAC-16BDBCA37964}"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E1B7A9-DAA3-4712-A1B1-EB4ACA3584DD}"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54CB296-780B-44A1-80D9-2098C478B5A2}"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0F354E-7371-47E3-A581-B22466A552E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D01C7D-6C35-46C9-A02B-5A3FCD9C5DB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480846-835A-4F27-988D-3391BC66C0D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6B1F54-BC58-482F-8C0A-68EDAA952A9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594830-E1C5-49D2-9280-3AE32F2C269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2FA4C6-8DAC-42D4-AA49-65B083EBA5F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5A78D00-2129-4E62-B1D4-8E00B175CCF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5B7729-3A0B-4008-AACC-0B4D653234E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06AA4B-F28A-46AC-97DA-A72304B7CE0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608BA9-23FF-4079-A829-8F47CA312C6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6133DA-D5F6-4F89-87BD-3D526B35D26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1E45E2-2780-4DA9-A0DA-308464C46ED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2C73A3-FC81-4DFF-9158-B87FEA0CDB4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E8C432-A428-42B2-9157-FBFBB9FA37C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9F4EDB-D24C-4EBF-A8F9-EB0A2C6114E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11E30B-AF4C-4ABC-8E44-3E93C61AE5D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B70671-C492-4633-ABF1-8112B323609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7E8983-74D6-45C9-9EA0-D7E0FE250EF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44E3B5-AECD-48AF-B55E-A02FE334102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1A4A8D-603C-4BA9-A876-BFCEAC87682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580400-F43B-45B4-8286-6ADEB30D283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A4E008-4584-4F2A-BD6E-66D95731F6C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1311F5-C707-4485-9E39-BA9A273E674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78A226-7DF0-4793-B61C-E158669A203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BA0344-F39E-43E4-9391-1A0E4527B78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6ED004-35C5-4454-91C4-06CB69C4596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67B621-AE66-457E-B574-7AAB25CC0F4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40C1E1-9302-4C6F-8309-AC9703CD1C2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531D31-B017-42B0-AA07-C5A40B9547F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F7694A-9933-4B59-9664-B027BB2E1C4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EA7DC7-7DE2-4285-B597-1E87597E41C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BAE58F-F3EC-413F-8AF8-5842FBC500B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653BC0-E022-4B39-98F1-9853A5D9E2E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C9FA63-3D66-401A-B0E8-7922C4BA599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1DEB89-2DF4-4283-B1BF-C2D510F0151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89A1AD-4EF5-4F2F-AA8D-0DDC8020CEC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F5E305-A884-428E-801B-EE8C2A31C3E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2A6C8C-F984-44CE-BD84-DCF32D159D1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081ECA-66F0-4A0D-8119-B22388F3432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D3C5F7-5D29-4737-866E-5C4B254ABA2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35DE78-E333-4158-AC43-1F46DA5951E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1FA3C0-4AA6-4ADF-8D96-109BC8F7EA0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809851-BAAA-4D6A-8D99-6A7201A2A38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4CB13B-E12F-4E66-B5A2-0DD7ED0B062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942EC3-52CE-451F-9F44-DD8CEC5B089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6B79F6-D722-491C-AA3A-A7199B99E01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CE1307-FCB8-4F36-821A-0E8DDF6945F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743F9F4-139B-4B82-977C-293A7E7BA5C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07D80B-2074-4DA7-9600-4CC0B6F0CD7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ABACC1-0355-45A8-93CC-812DB1DBA12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5E55C7-8C6A-4D3F-9D7C-1E1F4C5D7C1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92BDD0-2946-4239-8204-8A684FE5E2E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65092C-EBCF-448A-A8C7-FFAAB247DB3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724E7A-80DA-49AB-BF4A-291C695F837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57414C-9F7A-4158-8E67-AAEFE38FA63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D6FF20-B969-4B94-99D2-45C522297EC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3F9167F-DF61-488C-AD52-207AA12E82B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EC50E1-D3E1-4EDC-AF83-A17839D05CD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751BCD-9E65-415E-B543-7DE1C3FC18E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FCC8A9-28A3-48B2-9C55-33A800A0B61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EF6070-59E6-4433-B6C8-4586A10906A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627D7C-3131-4EF8-8FF5-12CEDD105AF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BA3E70-40E0-4DE9-9BEA-E04ECBFEE42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628C21-22DB-4A2D-A53B-DD0D6456E13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7E31CE-1FFC-454C-BA38-B2F724F5209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E35CFE-3344-4556-A034-F797AB1DB66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1231C7-2959-496B-8DBF-9E93C963024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A90D2D-DE6C-44FA-894D-151CBA10AE1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14F9DF-855D-4A1D-ADFC-2E311187C04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AAE7A7-C8EB-4AD4-A2C1-0527D411D25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BE7E35-E5CD-457D-A48B-BCB3E275323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AC02746-B302-43B1-9DDB-A6F35BB35FC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2AB71D-A235-4BD8-BD4D-B3717E70D87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2285A7-61C5-4D2E-8102-59DDF7923D5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58B0A4-3900-449D-B9FA-681ADC2DEDD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A59053-03EA-495C-AD3C-A785AA6D562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8FAD01-4039-4662-85EA-9395B862089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8F238D-2951-47D3-9413-C9830CE2EC5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6C950D-270A-4969-84E0-0CF12730C39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872859-3FDE-44B7-9D52-84DCB58C48E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D730EC-75A8-415D-BCA2-F1CF24CA991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C9620B-D472-4882-B1A8-04EBDB91A0C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5DDB14-90A4-4923-BE26-A14FF4007DF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C55144-D2F2-43D8-BFF5-FF5FF787EC2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513DE2-2291-419B-A366-5D087359F7B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