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94922"/>
        <c:axId val="55525681"/>
      </c:barChart>
      <c:catAx>
        <c:axId val="76194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5681"/>
        <c:crosses val="autoZero"/>
        <c:auto val="1"/>
        <c:lblAlgn val="ctr"/>
        <c:lblOffset val="100"/>
        <c:noMultiLvlLbl val="0"/>
      </c:catAx>
      <c:valAx>
        <c:axId val="55525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94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AAC-DFE2-43A0-AE8F-E45611F4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4CF-544A-468D-95C0-BDA20AA4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979-1E49-48C9-82EA-FDC4010D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8C8-F82A-4837-A77A-9810EA3B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163-1FF7-4C59-82A0-E31B3F19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2B18-0FF5-4CED-AFC0-77BD4FC6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78F-38FB-4C36-B65D-3B9D90EF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C20-8718-4D92-875C-7E2082A5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DE0-2B67-4FF9-88EA-B400884F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C45E-F67D-4CEE-93EF-474FFFA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5CB-E5A8-4ED3-9CD1-27B9F23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5E3-D842-4770-9915-05D68B1E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E831D-EDFC-49E5-B2B9-7C53BFF225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