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05172"/>
        <c:axId val="67663610"/>
      </c:barChart>
      <c:catAx>
        <c:axId val="67005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3610"/>
        <c:crosses val="autoZero"/>
        <c:auto val="1"/>
        <c:lblAlgn val="ctr"/>
        <c:lblOffset val="100"/>
        <c:noMultiLvlLbl val="0"/>
      </c:catAx>
      <c:valAx>
        <c:axId val="67663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05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F19-3390-4E97-B2B8-667A0F20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2B1-3536-4050-BF2B-2681C3E1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610-73CF-48D0-A541-42E3A1B3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998-9B56-42C7-8AA1-C51BCD0C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0A5-A819-449E-9A25-3B8F32B3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598-91ED-42CB-B012-A7294BC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AEA-2359-4FB7-8625-164B0D6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076-5321-4FA9-BD39-3ECC26EB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CE1-4C90-48F0-B64E-0A143D9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92A-5973-4CDE-9159-E4E0AD0F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AE8-ABBE-4CA8-A609-0F5027F3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7AC-B473-4A5B-8EC1-854FBC4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E72A5-06A6-4F50-B3D1-BD0D98C063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