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99255"/>
        <c:axId val="68306051"/>
      </c:barChart>
      <c:catAx>
        <c:axId val="604992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06051"/>
        <c:crosses val="autoZero"/>
        <c:auto val="1"/>
        <c:lblAlgn val="ctr"/>
        <c:lblOffset val="100"/>
        <c:noMultiLvlLbl val="0"/>
      </c:catAx>
      <c:valAx>
        <c:axId val="68306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992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A40B-C983-483D-8212-5E346A57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4E0B-1C65-4090-A2E9-92E4AC55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36C-B5CC-4293-8F95-77467F29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E50-CCBB-4748-A63B-42AE4108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DC8-6AF4-4E07-95F4-9BE5B762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F6C5-8180-41A7-9731-C82FC02B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EF61-A952-4D50-9128-30A5E1CB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93A2-A654-46AF-9338-F95E14F2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4E9-F4AF-4633-AC75-D7E795E2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F8C3-8D16-4CEF-9AC2-0179D8B0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6F7-1774-483B-996C-0BFA0633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CF42-9F16-4F39-B362-24ECD591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D56A6-14FA-413F-934A-F4AF007127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