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22685"/>
        <c:axId val="35909485"/>
      </c:barChart>
      <c:catAx>
        <c:axId val="73822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09485"/>
        <c:crosses val="autoZero"/>
        <c:auto val="1"/>
        <c:lblAlgn val="ctr"/>
        <c:lblOffset val="100"/>
        <c:noMultiLvlLbl val="0"/>
      </c:catAx>
      <c:valAx>
        <c:axId val="35909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22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926-30A3-479D-87EB-C28FF699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2E3-A4A3-44D3-B0E2-C1DF00BC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903-D9A2-4473-903F-98CE51F1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885-7567-4D52-99A7-8735784F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54E-9101-475B-B504-9D195F75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715-7BAB-44DB-B3E7-F232292A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BB98-27E0-41BF-9BB2-6CE9F36A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F75-E56F-4D36-9979-CF43E91F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091-99EF-4FC2-80B4-3EABDDFC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99F-5DF3-421B-977C-4673FC6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2F0-3701-4E2C-89AE-42F1F2F5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F33-159B-4351-8B89-96729635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A6115-9C72-42D5-8C7C-B4FFE95662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