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7532"/>
        <c:axId val="54363927"/>
      </c:barChart>
      <c:catAx>
        <c:axId val="18507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3927"/>
        <c:crosses val="autoZero"/>
        <c:auto val="1"/>
        <c:lblAlgn val="ctr"/>
        <c:lblOffset val="100"/>
        <c:noMultiLvlLbl val="0"/>
      </c:catAx>
      <c:valAx>
        <c:axId val="54363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7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C33-D38E-43AF-8CFE-ED6B6B2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3E6-7006-421F-83B3-411F088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E44-5D03-4D4A-BE58-A58A6E44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5B3-0A59-4EA6-AF19-E866F5E1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80E-9856-48A4-BD91-2773718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F26-C00A-402B-B9C5-D6130DC9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8F1-C00B-40C9-BBFC-A471A148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940-C419-4780-A2EC-C72C3D3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D41-F216-4192-BB48-A94372E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68F-B9EA-4E82-BF60-F6FF942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B66-D716-4E48-8EE4-0E66F6A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9E8-4494-41A5-A212-6FF6BBB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44807-0AAA-458E-A877-1657CC523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