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02756"/>
        <c:axId val="81049732"/>
      </c:barChart>
      <c:catAx>
        <c:axId val="99502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9732"/>
        <c:crosses val="autoZero"/>
        <c:auto val="1"/>
        <c:lblAlgn val="ctr"/>
        <c:lblOffset val="100"/>
        <c:noMultiLvlLbl val="0"/>
      </c:catAx>
      <c:valAx>
        <c:axId val="81049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02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717-5271-4F6A-A9C4-77351EDB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53F-5193-4897-BD64-01D78F0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F41-2CC3-4D93-8FFC-16BA5F96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DF4-E1F9-43EB-9206-A4A8C1C0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B7C-7C4B-4858-B892-0857D304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A39-1C5A-48F8-8149-7CA3650E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7FD-03FF-4D4C-9BAB-844FF44D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063-638F-4B99-A6F1-4669D91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234-2852-4385-B55B-B23D3A1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4E7-716D-4FEC-AE25-C2DF5717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E69-5719-4F1A-A14E-070FFBB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D6D-65D7-48C4-8E67-CFECE2E5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C2B24-7F6E-4475-8639-C77A2347D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