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42796"/>
        <c:axId val="81698830"/>
      </c:barChart>
      <c:catAx>
        <c:axId val="75642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98830"/>
        <c:crosses val="autoZero"/>
        <c:auto val="1"/>
        <c:lblAlgn val="ctr"/>
        <c:lblOffset val="100"/>
        <c:noMultiLvlLbl val="0"/>
      </c:catAx>
      <c:valAx>
        <c:axId val="81698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42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13F-8FBD-487F-83F1-CFB251DF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7F8-667B-490E-A2C6-AAE9FABA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FFB6-FB44-42B9-9AC4-242B7DF4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BA5-27C8-45D6-9891-BA68FE37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A76-55F1-4E45-96DD-40600B92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47E-E975-4CFD-B986-B41CD755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92F-AEB9-444D-9561-B4AAE0FD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960-0701-41C2-927F-EE5E81E9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2F7-0FC5-47F6-B444-32910698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B25-E672-4BAD-B584-31584204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A19-6CEF-4BD6-B275-07208B2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C91-DEE0-47F1-B49D-F5C31809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1B128-0009-4FB8-AB02-5715DED78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