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716254"/>
        <c:axId val="48134545"/>
      </c:barChart>
      <c:catAx>
        <c:axId val="177162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134545"/>
        <c:crosses val="autoZero"/>
        <c:auto val="1"/>
        <c:lblAlgn val="ctr"/>
        <c:lblOffset val="100"/>
        <c:noMultiLvlLbl val="0"/>
      </c:catAx>
      <c:valAx>
        <c:axId val="481345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7162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6D0E-3005-4B2D-A300-968D8BEA4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4733-3D7C-4090-8DCD-81119A804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39CF-67B7-4454-AEDB-3102D2DD3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B2BE-10B5-406A-A69E-6516872DA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EA43-B3E7-45A4-8BA0-345A2A497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AA89-2EB8-43EA-A045-D256AA661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87D2-9F6E-4690-883E-452497DBD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4803-2254-49EC-9F66-A4F602AA0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723C-808A-406C-8FE4-44ECAC73B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0EF2-95DE-4835-AA52-7F166CE43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776D-CF5A-4B35-81A5-5E62E629E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D2C0-FA33-40D2-AF70-1CE72BD50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C11BD4-A4F6-4719-ACC3-61906433139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