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92314"/>
        <c:axId val="16522861"/>
      </c:barChart>
      <c:catAx>
        <c:axId val="47892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22861"/>
        <c:crosses val="autoZero"/>
        <c:auto val="1"/>
        <c:lblAlgn val="ctr"/>
        <c:lblOffset val="100"/>
        <c:noMultiLvlLbl val="0"/>
      </c:catAx>
      <c:valAx>
        <c:axId val="16522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92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652-EAA0-495D-8B58-7BA92727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659-44C8-4FB1-8672-E7DD39F8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FD2-A8FF-449F-A807-96F64D62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5FB-A503-4D71-B62C-48BFAA3C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B50-A7B3-40B6-924C-2DFEC9B1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501-4FD2-4B50-8312-C8ED8940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8A3-803F-466D-A9CE-88254A33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C1A-F856-4054-BBF7-ADADE2E4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A97-A857-4FF3-9220-832D4621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01F-D302-438F-BD98-5C4860E7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FF6-775F-46CD-A6E4-8CA4813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F9A-1B0C-4229-ACA7-8112F95D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459E8-C0F7-4DB2-B9FB-11956686DE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