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78771"/>
        <c:axId val="66788979"/>
      </c:barChart>
      <c:catAx>
        <c:axId val="58878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8979"/>
        <c:crosses val="autoZero"/>
        <c:auto val="1"/>
        <c:lblAlgn val="ctr"/>
        <c:lblOffset val="100"/>
        <c:noMultiLvlLbl val="0"/>
      </c:catAx>
      <c:valAx>
        <c:axId val="66788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78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214-3ED5-4719-B299-44D03AB4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D9E-1FE4-4992-B2B2-1676A03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AB7-4670-45FF-A426-EFED58DA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421-87D5-40D5-AFB0-F9779068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4C8-6B49-4A25-8773-31CD2E55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6E0-C59E-480F-B8B2-C05E9D6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C2A-B0B0-46AA-A2C7-5F32AA7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B57-6443-41DD-A6B0-7C404BA8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350-C9CA-43BC-A79D-D1C8D3F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84B-7511-44A7-ABDA-AAB8544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AFE-0DF1-4FCC-8D93-8CEA808F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571-7326-411D-9486-1B69FA1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3370-B6E1-4CCC-8C22-F3DF24927F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