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9308"/>
        <c:axId val="83036035"/>
      </c:barChart>
      <c:catAx>
        <c:axId val="9429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36035"/>
        <c:crosses val="autoZero"/>
        <c:auto val="1"/>
        <c:lblAlgn val="ctr"/>
        <c:lblOffset val="100"/>
        <c:noMultiLvlLbl val="0"/>
      </c:catAx>
      <c:valAx>
        <c:axId val="83036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9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C6D-5299-4FCA-A18D-C3E3E0E4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B2D-EC87-49BB-BC23-9E4F0157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FEF-EA15-47EC-834C-370D7678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DE8-34E5-45A0-893E-C9DA7433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1A0-2EDA-486B-B4DB-2DE40CB3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C97-D2C8-48BA-8E9A-21BF521B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1C1-2C62-4B2C-B930-5A027211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E2F-400D-43ED-BDD8-EDF9004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5A1-7084-47D9-B3B7-C545D4C7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5F8-35FF-4012-9FB5-010C42F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92E-E066-4214-9837-52CA71F1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514-C6C8-4E3A-B6BA-C9BF3D0B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E1E6A-0EDA-45C4-9B69-536F77E6DA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