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18709"/>
        <c:axId val="76179752"/>
      </c:barChart>
      <c:catAx>
        <c:axId val="58018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79752"/>
        <c:crosses val="autoZero"/>
        <c:auto val="1"/>
        <c:lblAlgn val="ctr"/>
        <c:lblOffset val="100"/>
        <c:noMultiLvlLbl val="0"/>
      </c:catAx>
      <c:valAx>
        <c:axId val="76179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18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B6B-FB95-4730-90A1-2E4F4460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7BC-C1B5-49B5-8CB5-84B431AF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BD5-6C6E-4B0E-A1FE-9E473B43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176-0187-48CD-A3A1-06BBD6D5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7B9-5804-416D-9A82-E348FD2B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03E-4FB2-42F2-94D3-FC8AA55B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069-4B90-4ED8-B8FB-4C993081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869-B1B4-4234-8732-E469480A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17B-6ACD-49AC-BFC4-C9570880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DBB-96F3-4974-A2F9-3B750C5E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959-5821-40E8-98C8-CF17ED7B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28F-5A34-46A1-A36E-7F51671A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CEFA5-8B10-450C-BA82-27F6F46BD3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