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42323"/>
        <c:axId val="51022091"/>
      </c:barChart>
      <c:catAx>
        <c:axId val="52542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22091"/>
        <c:crosses val="autoZero"/>
        <c:auto val="1"/>
        <c:lblAlgn val="ctr"/>
        <c:lblOffset val="100"/>
        <c:noMultiLvlLbl val="0"/>
      </c:catAx>
      <c:valAx>
        <c:axId val="51022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42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8E6-3FBE-4171-AB36-AC500121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625-ED72-45EC-B0AC-3D2BC0C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5E4-7557-4B74-AF55-B830C2D6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C14-56DD-4312-9DA2-0762E743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CE4-DA94-4B2E-B777-107A521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4B6-17B3-4B9D-AFFE-091D3F30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141-465E-464D-ADED-DA747108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9F4-4B61-4ED1-ADB0-4A2FF954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640-4B69-4A8D-ACE1-C52370F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78CB-A6F8-4B34-8F09-3E74075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B43-6A5C-4391-B149-203BBA4A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B24-0A0A-4253-85CA-FD14305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818E6-F0B8-4D0A-B828-C7F6E35AD3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