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94574"/>
        <c:axId val="28028636"/>
      </c:barChart>
      <c:catAx>
        <c:axId val="61094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28636"/>
        <c:crosses val="autoZero"/>
        <c:auto val="1"/>
        <c:lblAlgn val="ctr"/>
        <c:lblOffset val="100"/>
        <c:noMultiLvlLbl val="0"/>
      </c:catAx>
      <c:valAx>
        <c:axId val="28028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94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18D-02F3-444D-B57C-63743DFF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0F3-9135-4148-BE05-FE52720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79A-36EF-467A-896E-D8B9E9B6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14F-1D8E-4878-A70C-D4BD506E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1BF-E749-452B-B049-2B090FE9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58E-2719-4D5A-B686-374FD837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4F2-1E26-427A-BE6E-A9368CFB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61F-FB59-416B-B623-A4EE0673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722-2AD9-4992-81DE-087FD6D6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2B6-FA54-4984-867D-380C4105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F7B-6A2F-4C42-83A2-98CCDA3C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F76-1A99-4206-991E-7B456272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F46D4-F4D1-4B11-A660-B9EF71A243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