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73443"/>
        <c:axId val="84723039"/>
      </c:barChart>
      <c:catAx>
        <c:axId val="94173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23039"/>
        <c:crosses val="autoZero"/>
        <c:auto val="1"/>
        <c:lblAlgn val="ctr"/>
        <c:lblOffset val="100"/>
        <c:noMultiLvlLbl val="0"/>
      </c:catAx>
      <c:valAx>
        <c:axId val="84723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73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C54-94C4-457B-8EB9-296B3364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8FE-3664-45D6-B013-B515BF0F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F60-038C-441C-B7F6-8275A259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D16-6B11-4156-AF1A-45B23986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BB6-D9F5-47C1-9F53-8CF6D3CF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857-7414-4B6C-AB32-4A3297CB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8F7-1E94-4853-8D81-D721C817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202-81E0-409B-9192-5D14675E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D57-67BB-4172-BA23-BD3345BB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876-AA76-429A-A741-81EFFEC6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D83-EC70-4994-92F3-D6FE6F87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4E5-7D8E-45EE-9881-F2F2A6AD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5B4DF-CA40-4AD4-B85F-3A64682172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