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33191"/>
        <c:axId val="32061667"/>
      </c:barChart>
      <c:catAx>
        <c:axId val="24333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61667"/>
        <c:crosses val="autoZero"/>
        <c:auto val="1"/>
        <c:lblAlgn val="ctr"/>
        <c:lblOffset val="100"/>
        <c:noMultiLvlLbl val="0"/>
      </c:catAx>
      <c:valAx>
        <c:axId val="32061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33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94B-7023-48D7-A90E-A2347F14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945-C37F-4088-9711-251E696C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A27-18D1-4F3A-BC0D-F46CF4F9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1E7-D659-4115-820B-6D8D0431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BFF-8CFC-4376-B713-34F95E33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940-7D4D-4011-8970-AD815CC5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FB1-221C-4D0B-B13E-6708CC71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84B-3B5B-48C7-9E4C-E4417233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2D7-9A8B-4B05-A789-6029FE76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F95-6506-4FC2-A224-BC723270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C6A-64FD-4F91-9AD6-A1801330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B97-58F9-4DB2-BA51-66E20B59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20682-AC95-4FFC-A50E-003D09D60A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