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814165"/>
        <c:axId val="89510942"/>
      </c:barChart>
      <c:catAx>
        <c:axId val="78814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10942"/>
        <c:crosses val="autoZero"/>
        <c:auto val="1"/>
        <c:lblAlgn val="ctr"/>
        <c:lblOffset val="100"/>
        <c:noMultiLvlLbl val="0"/>
      </c:catAx>
      <c:valAx>
        <c:axId val="89510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14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2C62-5F06-4BAB-BB9D-3522F325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7D82-1716-4DC5-B6EE-BA5E3135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728-111E-48D3-8D17-30C92676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963-4C7D-432D-A817-D0BCBB49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CAA-3468-4F47-811D-D2947314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42B-3EE9-42A8-B0F0-42A2D918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4E8-2B36-4220-B134-719DEDD9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F1E6-6015-4360-BCED-06497D25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F89-F6B8-4338-AD2A-0530757C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EB4-7FFB-4BE9-A690-0BFB7975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A7D-AD6E-427B-8A68-C421DE82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0793-5D9D-4EDD-90B4-D338BBDF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3FFD2-6294-4F33-AAD9-B93C21A47E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