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23709"/>
        <c:axId val="14134127"/>
      </c:barChart>
      <c:catAx>
        <c:axId val="13237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34127"/>
        <c:crosses val="autoZero"/>
        <c:auto val="1"/>
        <c:lblAlgn val="ctr"/>
        <c:lblOffset val="100"/>
        <c:noMultiLvlLbl val="0"/>
      </c:catAx>
      <c:valAx>
        <c:axId val="141341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37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81D4-7875-49F5-A034-EDA8D6BF8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4D7B-C5A1-409A-BDE4-12BB3602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3E16-0CD9-4137-931E-7FE8167D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4A8F-7B7F-4E7B-9881-F6543CDB2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7559-38AD-4233-BE19-7A0D5514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8AA8-0DAA-411E-9701-3A87DCBA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41B0-27C8-4D9F-9C21-8FB575B1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247C-DC0D-47B2-AFB6-07FEF8DC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B401-7B14-4F76-8211-824F947E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9822-2F7E-434D-8C5F-95B246C1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9376-F963-461E-AADA-9604F385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BE39-8F08-45E7-8E81-CF8F9E32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4CFCE-A42D-4269-93D2-9AB12C9535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