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077860"/>
        <c:axId val="91337876"/>
      </c:barChart>
      <c:catAx>
        <c:axId val="750778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337876"/>
        <c:crosses val="autoZero"/>
        <c:auto val="1"/>
        <c:lblAlgn val="ctr"/>
        <c:lblOffset val="100"/>
        <c:noMultiLvlLbl val="0"/>
      </c:catAx>
      <c:valAx>
        <c:axId val="913378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0778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D95C-C9CB-4FB2-8BDA-E29F24874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4D7F-65AA-4625-BFD0-AE1F0927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5894-2B1F-4838-B57D-41C500448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04C3-1126-481A-BB5F-ED89EF848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8907-C5AD-4D9E-A522-E8E75AAF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AF49-3C5B-46B2-B171-1C8309F4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9D94-E924-4783-98AF-5B66415F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6DC4-FF72-4357-9DE8-C411BC39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4FB9-7B9E-4C53-A3B0-61C4178E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4DA5-C4DA-4141-A774-5CD2834C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64A8-EA87-4A81-BB40-A0159B61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93FF-C526-4CF7-94C6-76F2F000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5FD523-BEB0-4B15-A307-4807802350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