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86505"/>
        <c:axId val="92329307"/>
      </c:barChart>
      <c:catAx>
        <c:axId val="36486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29307"/>
        <c:crosses val="autoZero"/>
        <c:auto val="1"/>
        <c:lblAlgn val="ctr"/>
        <c:lblOffset val="100"/>
        <c:noMultiLvlLbl val="0"/>
      </c:catAx>
      <c:valAx>
        <c:axId val="9232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86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B87-347C-4FC2-B04F-C36C7B76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D60-57CC-4E40-BCDD-D151C02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F0C-7C45-443C-9BA7-F0C9EBA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28C-E945-481D-A629-AEC0BFCB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5C6-9205-4B64-B9A6-8A90A07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E34-EAA3-4BA6-9637-A3B8A5BF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344-D0EB-4544-8885-D70CAB6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91E-276D-4F0E-9778-3487875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9DE-1639-4252-A645-A9F193C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7E9-0DE2-4EEE-A092-7A083A22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B25-68AD-45F4-9488-4FCA7ED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9F9-E190-4E65-A832-DB754F2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B27B8-52B3-43FF-943D-370DB585BD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