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96915"/>
        <c:axId val="53021952"/>
      </c:barChart>
      <c:catAx>
        <c:axId val="92496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1952"/>
        <c:crosses val="autoZero"/>
        <c:auto val="1"/>
        <c:lblAlgn val="ctr"/>
        <c:lblOffset val="100"/>
        <c:noMultiLvlLbl val="0"/>
      </c:catAx>
      <c:valAx>
        <c:axId val="53021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96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942-766E-45E1-98F6-D72F668B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0E9-D10A-4FE5-80E7-A6F79A5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D76-AFF8-4ACB-B460-19938075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F06-DA64-4630-B283-1D062A49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1E6-7AAD-4AEE-ADB1-D11E745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68E-21C1-4A92-996D-D2B2CC56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0D3-2EA5-4FBB-B8D0-F4BF08D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865-BD1B-4673-A452-0ADDD5C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A39-38B3-4635-BB35-3F78390C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AC6-5368-412B-BA9F-E39D354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832-A427-488F-849A-E10F243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2ED-BB20-41C2-A9C4-8B33AF5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6052A-70E5-4D3F-9483-611E175F4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