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63245"/>
        <c:axId val="96040655"/>
      </c:barChart>
      <c:catAx>
        <c:axId val="213632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40655"/>
        <c:crosses val="autoZero"/>
        <c:auto val="1"/>
        <c:lblAlgn val="ctr"/>
        <c:lblOffset val="100"/>
        <c:noMultiLvlLbl val="0"/>
      </c:catAx>
      <c:valAx>
        <c:axId val="960406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632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42F9-CE97-4998-9853-F8D3B4F4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540B-E6D5-4901-A021-858094DB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7824-1A20-442E-B40A-5D7C879C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12E7-235B-4199-93AC-04BB3619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2C6C-E49D-4E32-84FB-F32F4077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02A2-255C-47FA-A2F4-E02C0D32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0508-BA73-4679-874C-DDB43B32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A760-C28F-4FFF-A125-D4C1301E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6B19-8FBE-404B-A717-48F1AD76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C270-1E15-48F8-894C-6E8D4C1C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BBC4-BE84-4AF8-912D-DA4B846A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54E1-1D8D-40EC-ACF8-3FC3A8BC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3F879-45F1-4E8F-A728-0D17695A31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