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92426"/>
        <c:axId val="35831508"/>
      </c:barChart>
      <c:catAx>
        <c:axId val="27692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31508"/>
        <c:crosses val="autoZero"/>
        <c:auto val="1"/>
        <c:lblAlgn val="ctr"/>
        <c:lblOffset val="100"/>
        <c:noMultiLvlLbl val="0"/>
      </c:catAx>
      <c:valAx>
        <c:axId val="35831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92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B43-2024-4091-8B2F-2327BBBB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FFD-2A25-4724-963E-8EDD7856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B9F-895C-4877-A057-84CC1D1D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085-C6BA-4B4E-AA92-E799AFFB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457-29E0-48EF-91FB-7291296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E88-07D0-4539-9D6D-918CBB1D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98C-E185-44FC-BED2-2F3DC005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08A-0965-4F2C-ABC3-624AC474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999-9DC4-4FC0-9C0F-54504E1E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FBB-7FCC-41F1-9DD0-99CD755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494-16BE-456E-AB18-6A3F829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94F-5C19-4E96-9341-6203E9F9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FB8FC-0368-44C2-899C-22D308F95A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