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84591"/>
        <c:axId val="1205310"/>
      </c:barChart>
      <c:catAx>
        <c:axId val="537845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5310"/>
        <c:crosses val="autoZero"/>
        <c:auto val="1"/>
        <c:lblAlgn val="ctr"/>
        <c:lblOffset val="100"/>
        <c:noMultiLvlLbl val="0"/>
      </c:catAx>
      <c:valAx>
        <c:axId val="12053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845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588B-A82E-4299-95E9-3E2D40E2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6F3-FFBC-4EFB-A589-E8C39D74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8BD-4A64-4E6E-A279-4ABF09B7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7B22-E674-466A-93C0-AFC8EB27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9427-36D8-4B23-9287-7453A205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D53E-1768-41FD-962F-03CF5B62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04C8-2F08-444B-BDCD-FCE9AF6A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A039-2B3B-4719-89AC-0ADDB1F6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B2FD-08B0-40E4-8502-B721F146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CD22-D366-4A21-86EB-C5B48092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EDED-84DE-4F14-9627-176A72EA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83E0-C4E0-401D-B345-2251A43D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1C2BE-0021-4D18-A577-025635BB58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