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84421"/>
        <c:axId val="41997091"/>
      </c:barChart>
      <c:catAx>
        <c:axId val="11184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97091"/>
        <c:crosses val="autoZero"/>
        <c:auto val="1"/>
        <c:lblAlgn val="ctr"/>
        <c:lblOffset val="100"/>
        <c:noMultiLvlLbl val="0"/>
      </c:catAx>
      <c:valAx>
        <c:axId val="41997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84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1DC-3CE2-471D-B58D-D1C1D71C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298-0720-4550-A421-34CEC0DD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290-C098-4AE6-BD7E-8A634A57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7E8-D8BD-4F77-B80D-D206731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80B-CC4F-4740-85C3-D5FD1DB9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14DB-C309-4B41-A093-F3FA98D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3AD-F46B-48AC-8489-593F944C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39F-75BB-43DB-8BDC-C6CF6CBC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902-BA86-4C9A-BB9D-6B6867E6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F8C-793C-4CC7-85DA-10475661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D81-A751-4AFF-90B2-32C20047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2AA-6F52-45AF-9D23-C667C7B3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70A67-EF4D-48E0-B482-22FEE95FA77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