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29891"/>
        <c:axId val="91899125"/>
      </c:barChart>
      <c:catAx>
        <c:axId val="2082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99125"/>
        <c:crosses val="autoZero"/>
        <c:auto val="1"/>
        <c:lblAlgn val="ctr"/>
        <c:lblOffset val="100"/>
        <c:noMultiLvlLbl val="0"/>
      </c:catAx>
      <c:valAx>
        <c:axId val="91899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D48-FDB8-420E-9DAC-0C58C5EE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3A1-F1CD-43A8-ADB8-1CF8E0F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B45-8CE3-4EE7-B5DB-870176FB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1D6-C0AD-477B-9E19-F0776469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D63-1E70-4C57-A2AA-2A330CB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878-2448-42AC-B95D-3DF970C2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CFC-BD3C-4FCE-854B-A304366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808-A01C-4237-87AE-83A8B14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800-59E7-4504-9DFE-1248B665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CC5-4A7F-445E-AD92-5D75635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FED-FEC0-45D6-860D-4CDA770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CE5-5D6E-4FDF-98A7-2714F417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13BE1-B330-455A-9FF2-E783C93A9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